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9B3-8ACD-4175-AA5E-2A703BF6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830-B37C-4DFB-A1F7-2222EE4F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D96-E357-446A-BEAE-9496A616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DE0-39F9-47F3-9DC6-7074500A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B62-E989-40FE-A91D-C7DBE1E8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F8F-39E9-489F-B322-C1D9F56C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871-18DF-437A-B6DC-E960D0BC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F42-0CF2-484D-856F-A7280F18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237-1375-41EC-867D-A7271DB1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AB6-54A3-487E-944A-FEF7EAA6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881-BBDF-413F-9AE6-AF217832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651-ACF9-4B64-B535-2428EB2D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C79C-4FD7-494F-BB49-6AB65D15F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13600" y="2367000"/>
            <a:ext cx="566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滁州职业技术学院教职工基础信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采集工作协调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56800" y="999720"/>
            <a:ext cx="792972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决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拷贝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SCOMCTL.OC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文件到 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:\Windows\System3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目录，若已经存在同名文件，则替换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SCOMCTL.OCX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将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群中共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“开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”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regsvr32.exe C:\Windows\System32\MSCOMCTL.OC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】，然后回车执行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重新启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完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上操作如下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28840" y="1000080"/>
            <a:ext cx="5640120" cy="3143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3305160" cy="16668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5214960" y="1571760"/>
            <a:ext cx="2238480" cy="1028520"/>
          </a:xfrm>
          <a:prstGeom prst="wedgeRectCallout">
            <a:avLst>
              <a:gd name="adj1" fmla="val -101689"/>
              <a:gd name="adj2" fmla="val 303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操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拷贝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SCOMCTL.OCX</a:t>
            </a: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文件到此目录，若已经存在同名文件，则替换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2928960" y="2428920"/>
            <a:ext cx="928800" cy="357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3500280" y="4143240"/>
            <a:ext cx="3857760" cy="857520"/>
          </a:xfrm>
          <a:prstGeom prst="wedgeRectCallout">
            <a:avLst>
              <a:gd name="adj1" fmla="val -48296"/>
              <a:gd name="adj2" fmla="val 858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操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：运行如下指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gsvr32.exe C:\Windows\System32\MSCOMCTL.O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2428920" y="5357880"/>
            <a:ext cx="2903400" cy="414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61440" y="340200"/>
            <a:ext cx="512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操作系统下选择“以管理员身份运行”，打开“管理员：命令提示符”。如下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172040" cy="5295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19560" y="2781360"/>
            <a:ext cx="49244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856800" y="999720"/>
            <a:ext cx="792972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宏病毒解决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宏病毒较多，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较常见。传播很快，打开携带宏病毒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后会被感染，病毒会通过拷贝、传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向外扩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瑞星检测、消灭宏病毒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集模板中的宏，不会被当做病毒，但一旦采集模板文件感染病毒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瑞星检测杀毒时，会把宏病毒及模板中的宏全部删除，造成数据校验功能失效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议杀毒消灭宏病毒后，重新下载新模板，并把已填写的数据拷贝到新下载的模板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64760" y="241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高校采集模板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16320" y="906840"/>
            <a:ext cx="421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填报数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群共享中下载采集模板，不要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名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打开后如下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424720" cy="2452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487240" y="4948920"/>
            <a:ext cx="68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始模板有一条示例数据，填写前先删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7628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采集模板的输入形式分为：手工输入框、下拉选择框（单选）、弹出选择框。其中，弹出选择框分为复选框和树形选择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手工输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中日期型指标，应按照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YYYMMDD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填写，如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13010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年月型指标，应按照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YYYMM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填写，如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1301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“月平均工资”必须输入数字，且可保留一位小数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7396200" cy="1928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987640" y="2276640"/>
            <a:ext cx="3629160" cy="149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3716280"/>
            <a:ext cx="84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下拉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下拉选择框中的选项若有具体子项，须选择具体子项，不可选择父项，如“最高学位”中“博士”下还包含了“哲学博士学位”等项目，则不可选择“博士”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2143080" cy="113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659640" y="2349360"/>
            <a:ext cx="21333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667320" cy="1990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3782880" cy="295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15400" y="54936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弹出选择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881080" cy="482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4608360" cy="4592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26680" y="549360"/>
            <a:ext cx="52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若学校教师数量较多可分表录入，最终上报时再合并上报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多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间合并时，粘贴数据至目标文件时需选择“选择性粘贴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在选择性粘贴窗口中选择“数值”格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47628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有数据完成后，点击模板上的“开始检查”按钮对数据进行校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若数据中存在错误则弹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176720" cy="1946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63720" y="3572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此同时，在模板下方也会出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0760" y="2851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确定按钮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4608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68280" y="40392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错误信息工作表（错误信息工作表不能删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8680" y="479664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错误信息工作表中的提示修改错误信息，直到检查提示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1943280" cy="1235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597708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使用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高校采集模板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使用环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使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8 IE10 IE1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浏览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位）操作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fice excel 200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不要使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或其他版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99640" y="1773000"/>
            <a:ext cx="7572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启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宏默认处于禁用状态，开启宏的方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2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【工具】菜单，点击【选项】后显示如下，依次选择图中红色圆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611280" y="107172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EXCEL</a:t>
            </a:r>
            <a:r>
              <a:rPr b="1" lang="zh-CN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采集模板宏开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696420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Oval 3"/>
          <p:cNvSpPr/>
          <p:nvPr/>
        </p:nvSpPr>
        <p:spPr>
          <a:xfrm>
            <a:off x="6786720" y="1785960"/>
            <a:ext cx="780840" cy="314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6215040" y="4429080"/>
            <a:ext cx="1357200" cy="486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000160" y="1428840"/>
            <a:ext cx="4748400" cy="4286160"/>
          </a:xfrm>
          <a:prstGeom prst="rect">
            <a:avLst/>
          </a:prstGeom>
          <a:ln w="0">
            <a:noFill/>
          </a:ln>
        </p:spPr>
      </p:pic>
      <p:sp>
        <p:nvSpPr>
          <p:cNvPr id="50" name="Oval 2"/>
          <p:cNvSpPr/>
          <p:nvPr/>
        </p:nvSpPr>
        <p:spPr>
          <a:xfrm>
            <a:off x="2104920" y="3200400"/>
            <a:ext cx="1324080" cy="7286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4429080" y="5214960"/>
            <a:ext cx="1285920" cy="5713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6643800" y="2500200"/>
            <a:ext cx="1761840" cy="752760"/>
          </a:xfrm>
          <a:prstGeom prst="wedgeRectCallout">
            <a:avLst>
              <a:gd name="adj1" fmla="val -115657"/>
              <a:gd name="adj2" fmla="val 598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选择【低】后， 选择【确定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56800" y="907560"/>
            <a:ext cx="8001000" cy="54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20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项】，点击【信任中心】，选择【信任中心设置】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571760" y="2708280"/>
            <a:ext cx="5879880" cy="3768840"/>
          </a:xfrm>
          <a:prstGeom prst="rect">
            <a:avLst/>
          </a:prstGeom>
          <a:ln w="0">
            <a:noFill/>
          </a:ln>
        </p:spPr>
      </p:pic>
      <p:sp>
        <p:nvSpPr>
          <p:cNvPr id="55" name="Oval 4"/>
          <p:cNvSpPr/>
          <p:nvPr/>
        </p:nvSpPr>
        <p:spPr>
          <a:xfrm>
            <a:off x="1643040" y="4314960"/>
            <a:ext cx="665280" cy="266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6338880" y="5373720"/>
            <a:ext cx="969840" cy="333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56800" y="114300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【信任中心】设置画面，选择【宏设置】，在画面右侧，选择【启用所有宏】，点击【确认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28760" y="2571840"/>
            <a:ext cx="801504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Oval 3"/>
          <p:cNvSpPr/>
          <p:nvPr/>
        </p:nvSpPr>
        <p:spPr>
          <a:xfrm>
            <a:off x="571680" y="3929040"/>
            <a:ext cx="714240" cy="285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2143080" y="4214880"/>
            <a:ext cx="3214800" cy="285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6715080" y="5572080"/>
            <a:ext cx="781200" cy="357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4000" y="476280"/>
            <a:ext cx="806436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EXCE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采集模板报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安装补丁或其他原因，可能存在无法加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或运行时，出现以下画面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4643280" cy="2428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35960" y="4507560"/>
            <a:ext cx="675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打开模板时报错：无法装载这个对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为它不适用于这台计算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“开始检查”按钮时报错：运行时错误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4’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对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“开始检查”按钮时报错：编译错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找不到工程或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“开始检查”按钮时报错：隐含模块中的编译错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XXXXX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如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mXueK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5T00:59:25Z</dcterms:created>
  <dc:creator>User</dc:creator>
  <dc:description/>
  <dc:language>en-US</dc:language>
  <cp:lastModifiedBy>User</cp:lastModifiedBy>
  <dcterms:modified xsi:type="dcterms:W3CDTF">2013-10-18T00:35:10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